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09B-B40B-4B81-AC73-C0A6CECE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DA4-CEB0-4907-91FB-EAAB1BFF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688-A665-4A43-8E35-57AD329A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326-C26F-470E-BC44-1D87FCB1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5649-8D1D-4CE8-B0F3-0C20E517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A6F-6C5F-42C9-AB5A-5DF4E7D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0E19-A405-46FB-8E38-CB695A53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D82-F31B-4441-9533-7AC8091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76A-AD42-4FD8-8F19-0AF5144F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4C4-70D0-4B4B-92AD-215CEEFB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C33-A63A-42ED-BF9D-94A30188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E34-A721-489B-A1C2-CDCCF2E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D80-870C-4CEF-A3E2-BBD5F4F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C95C-914E-498B-9FDE-E03EFB2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BA9-8A4A-4820-B2D3-54595A0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79DF-6660-47DC-9E69-D302491D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2B4A-F340-4551-B020-D0CD6CF3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E5E-E099-4147-BF96-4100A39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18E-E9B7-448D-BCDB-806CD57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F61-AD2D-4749-BEFE-819D9270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FB4-519B-4866-A010-340A5EAB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4A6-67E1-4497-8C26-1426C8B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2BD-87E3-4ED0-8499-6CB93B0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BF8-C717-4B4F-8196-6F60CF71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621-D68F-4DAB-9667-D8A9594F615F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1AA-8749-4819-B2E5-4C209C70F87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82B-7978-4B37-AD43-9F95917AECFC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2301-3599-4EA8-BE8F-E9924A61203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7772400" cy="33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5897"/>
                </a:solidFill>
                <a:latin typeface="Arial"/>
                <a:ea typeface="微软雅黑"/>
              </a:rPr>
              <a:t>Federlegno Arredo S.r.l. e Bologna Fiere S.p.A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6000" spc="-1" strike="noStrike">
                <a:solidFill>
                  <a:srgbClr val="2f5897"/>
                </a:solidFill>
                <a:latin typeface="Arial"/>
                <a:ea typeface="微软雅黑"/>
              </a:rPr>
              <a:t>RILANCIARE</a:t>
            </a:r>
            <a:br>
              <a:rPr sz="6000"/>
            </a:br>
            <a:r>
              <a:rPr b="0" lang="en-US" sz="6000" spc="-1" strike="noStrike">
                <a:solidFill>
                  <a:srgbClr val="2f5897"/>
                </a:solidFill>
                <a:latin typeface="Arial"/>
                <a:ea typeface="微软雅黑"/>
              </a:rPr>
              <a:t>IL </a:t>
            </a:r>
            <a:r>
              <a:rPr b="1" lang="en-US" sz="6000" spc="-1" strike="noStrike">
                <a:solidFill>
                  <a:srgbClr val="2f5897"/>
                </a:solidFill>
                <a:latin typeface="Arial"/>
                <a:ea typeface="微软雅黑"/>
              </a:rPr>
              <a:t>SISTEMA ITALIA</a:t>
            </a:r>
            <a:br>
              <a:rPr sz="6000"/>
            </a:br>
            <a:br>
              <a:rPr sz="2000"/>
            </a:br>
            <a:br>
              <a:rPr sz="2000"/>
            </a:br>
            <a:r>
              <a:rPr b="0" i="1" lang="en-US" sz="2400" spc="-1" strike="noStrike">
                <a:solidFill>
                  <a:srgbClr val="2f5897"/>
                </a:solidFill>
                <a:latin typeface="Arial"/>
                <a:ea typeface="微软雅黑"/>
              </a:rPr>
              <a:t>Milano. 6 maggio 2014 ore 10.45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2" descr="Y:\FLAmedia WEB\2013\97_LOGHI &amp; IMM CORD\loghi nuovi\LOGO_FLA_COL.jpg"/>
          <p:cNvPicPr/>
          <p:nvPr/>
        </p:nvPicPr>
        <p:blipFill>
          <a:blip r:embed="rId1"/>
          <a:stretch/>
        </p:blipFill>
        <p:spPr>
          <a:xfrm>
            <a:off x="1701720" y="5630760"/>
            <a:ext cx="1114560" cy="6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818240" y="5664240"/>
            <a:ext cx="216036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’accordo di cooperazione e partenariato tra Bologna Fiere S.p.A. e Federlegno Arredo S.r.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 quale scopo la realizzazione in Cina di una manifestazione fieristica, l’organizzazione di eventi di promozione, incontro e lo sviluppo di attività di marketing per la promozione della produzione italiana di mobili. L’accordo preve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stituzione di una Joint Venture (JV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 società di diritto cinese al fine di operare in Cina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F583-1A90-4011-83C7-8A00FDBC3DF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Rettangolo 4"/>
          <p:cNvSpPr/>
          <p:nvPr/>
        </p:nvSpPr>
        <p:spPr>
          <a:xfrm>
            <a:off x="220680" y="250920"/>
            <a:ext cx="4294080" cy="4143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1 – Oggetto dell’accordo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rganizzare nel 2016 a Shanghai la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nifestazione fieristica dedicata al Mobile Italiano in Cina</a:t>
            </a:r>
            <a:endParaRPr b="0" lang="en-US" sz="5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66B9-0AD9-4A68-B7A4-7E84851E03E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2 – Scopo della Joint Ventu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viluppare in Cina un’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ttività di marketing</a:t>
            </a:r>
            <a:br>
              <a:rPr sz="5000"/>
            </a:b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 servizi alle imprese</a:t>
            </a:r>
            <a:endParaRPr b="0" lang="en-US" sz="5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  <a:ea typeface="宋体"/>
              </a:rPr>
              <a:t>Eventi di promozione e di incontro B2B, B2C, B2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. Sviluppare servizi utili alle imprese per la promozione e lo sviluppo della loro presenza nel mercato cinese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49B9-97BA-4F7D-BCDF-9506BEABEEE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2 – Scopo della Joint Ventu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alizzazione d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“Clu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al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r le aziende italiane di arredamento  associate a FederlegnoArred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reazione di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tabase con contatti cinesi qualifica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distributori, agenti, architetti etc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alizzazione di eventi Business to Business (B2B), Business to Consumer (B2C) e Business to Social (B2S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reazione e gestione di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rtale web della Joint Ven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e attivazione di un servizio di newslett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D4CE-3537-4E31-9B32-55C0D22FBF7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3 – Attività previste (1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ttività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mozione / marketing / comunic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la JV (conferenza stampa, incontri etc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mozione delle manifestazioni d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“Salone del mobile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5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o Milano 20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 gruppo FederlegnoArredo ad espositori e visitatori cines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Realizzazione nel 2016 a Shanghai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manifestazione fieristica dedicata al mobile italiano in Ci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0B92-EB4D-4C9E-A331-3364E3C61CA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3 – Attività previste (2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897"/>
                </a:solidFill>
                <a:latin typeface="Arial"/>
                <a:ea typeface="微软雅黑"/>
              </a:rPr>
              <a:t>Creazione del sito web della Joint Venture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19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opi principal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na piattaforma per il lancio della fiera e per l’attività del “Club Made in Italy”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mozione dei brand/prodotti dei membri del “Clu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d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taly”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no dei metodi per aumentare il database delle aziende cinesi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mozione delle manifestazioni del “Salone del Mobile”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enuti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nsentazioni dei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ei membri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ews e info degli eventi e manifestazioni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vità e trend del settore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3C0B-B66A-470E-9A85-2FC6DC68472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4 – Attività: esempi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897"/>
                </a:solidFill>
                <a:latin typeface="Arial"/>
                <a:ea typeface="微软雅黑"/>
              </a:rPr>
              <a:t>Creazione del “Club Made in Italy”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 servizi di JV ai membri, compresi nella member fe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nsilmente fornire le informazioni sul mercato e la normativa cinese del settore ai membri  per migliorare le conoscenze del mercato cinese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dare le E-newsletter dei membri alle aziende cinesi sul database realizzato dalla JV, 2 volte/anno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alizzare gli eventi B2S, 2 volte/anno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icercare e organizzare gli incontri con i potenziali distributori/agenti cinesi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D86-B598-4AC1-B699-4D023C01B30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4 – Attività: esempi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24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897"/>
                </a:solidFill>
                <a:latin typeface="Arial"/>
                <a:ea typeface="微软雅黑"/>
              </a:rPr>
              <a:t>3° Forum del LegnoArredo, 5 giugno 2014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65040" y="160020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25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In occasione del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3°Forum del LegnoArredo, previsto il prossimo 5 giugno presso il MICO di Milan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, uno dei temi principali sarà il contenuto dell’accordo con Bologna Fiere e le attività previste sul mercato cinese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lvl="1" marL="4525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Durante l’evento verranno svelate altr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novità riguardanti il progett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lvl="1" marL="4525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Saranno inoltre presenti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importanti architetti internazional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italiani e cines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, che porteranno il loro contributo per la conoscenza del mercato cinese e delle opportunità di business per le aziende italiane di arredamento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95F-60C1-472C-8C29-82C9F1BDB42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Rettangolo 4"/>
          <p:cNvSpPr/>
          <p:nvPr/>
        </p:nvSpPr>
        <p:spPr>
          <a:xfrm>
            <a:off x="154080" y="190440"/>
            <a:ext cx="4292640" cy="416160"/>
          </a:xfrm>
          <a:prstGeom prst="rect">
            <a:avLst/>
          </a:pr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5 – prossimi ste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0:30:35Z</dcterms:created>
  <dc:creator>Kevin XU</dc:creator>
  <dc:description/>
  <dc:language>en-US</dc:language>
  <cp:lastModifiedBy> </cp:lastModifiedBy>
  <cp:lastPrinted>2014-04-12T12:13:12Z</cp:lastPrinted>
  <dcterms:modified xsi:type="dcterms:W3CDTF">2014-05-06T12:40:39Z</dcterms:modified>
  <cp:revision>163</cp:revision>
  <dc:subject/>
  <dc:title>FLA &amp; BFC 项目合作方案</dc:title>
</cp:coreProperties>
</file>